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ECCE4-8BB9-4191-85AC-CF962DE1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B15A4-2C35-4C63-BD27-7E113AE0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8CF9CF-3515-42B2-8317-8A3736126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E96A6-AC3A-4D66-86FD-903A375D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11335-E5B9-47C8-ACA4-681D6F233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760EF-25AD-4A6F-A252-06FB9DA3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3F62B9-D9EA-4995-826B-5531254C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964E97-7F2D-4998-9D9E-E073A463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2C72F7-395E-4A1D-8948-644CB20F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8DBEB2-5A97-4D81-898F-2BC324CC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57FD37-CC78-45B6-AAC0-02CEA95CA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B1C2-D6FF-4747-9754-FEDEB0E34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72FD-9D4E-49B6-8ACA-2038BE0F8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32F4-5A44-4F69-BB54-8E61FF25B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B462-D2A1-4055-B355-C2AAD4FDE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C116-22AB-40F6-8C1A-913B86CDE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9752-B20F-48C7-8C35-FF3F2E43F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F252-43F6-464B-B7C0-36167AA03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5801-28AF-4145-B196-50154E83C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3E5A-C060-44B2-BF2D-4450315F0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38AF-9893-4640-888B-7ABA48991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AE82-A3FD-44A1-9417-104AEB328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E043-1471-48A9-B990-CC1C2CF5F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38F2C-B64C-4CFA-A64F-47A01826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11" Type="http://schemas.openxmlformats.org/officeDocument/2006/relationships/image" Target="../media/image2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hyperlink" Target="http://www.google.com/imgres?imgurl=http://www.dreamstime.com/angry-man-pointing-at-you-thumb162498.jpg&amp;imgrefurl=http://www.dreamstime.com/angry-man-pointing-at-you-image162498&amp;usg=__icgvVPPl2jPBuCkYRnrL7ycjDZE=&amp;h=350&amp;w=233&amp;sz=34&amp;hl=en&amp;start=18&amp;um=1&amp;itbs=1&amp;tbnid=f20O3ciik6crtM:&amp;tbnh=120&amp;tbnw=80&amp;prev=/images%3Fq%3Dangry%2Bman%26um%3D1%26hl%3Den%26safe%3Dstrict%26tbs%3Disch:1" TargetMode="External"/><Relationship Id="rId15" Type="http://schemas.openxmlformats.org/officeDocument/2006/relationships/image" Target="../media/image3.jpeg"/><Relationship Id="rId16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17" Type="http://schemas.openxmlformats.org/officeDocument/2006/relationships/image" Target="../media/image4.jpeg"/><Relationship Id="rId18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i41.tinypic.com/2uhn2wg.jpg&amp;imgrefurl=http://jazzfanz.com/viewtopic.php%3Ff%3D2%26p%3D726819&amp;usg=__eSPTzSssGHf8D9zqfAW9Xcjoa5w=&amp;h=396&amp;w=450&amp;sz=38&amp;hl=en&amp;start=17&amp;um=1&amp;itbs=1&amp;tbnid=TqbJqkFgpo5h4M:&amp;tbnh=112&amp;tbnw=127&amp;prev=/images%3Fq%3Dtaylor%2Bswift%2Bconcert%26um%3D1%26hl%3Den%26safe%3Dstrict%26tbs%3Disch:1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7.xm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com/imgres?imgurl=http://www.dreamstime.com/angry-man-pointing-at-you-thumb162498.jpg&amp;imgrefurl=http://www.dreamstime.com/angry-man-pointing-at-you-image162498&amp;usg=__icgvVPPl2jPBuCkYRnrL7ycjDZE=&amp;h=350&amp;w=233&amp;sz=34&amp;hl=en&amp;start=18&amp;um=1&amp;itbs=1&amp;tbnid=f20O3ciik6crtM:&amp;tbnh=120&amp;tbnw=80&amp;prev=/images%3Fq%3Dangry%2Bman%26um%3D1%26hl%3Den%26safe%3Dstrict%26tbs%3Disch:1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google.com/imgres?imgurl=http://www.femail.com.au/img/steve_irwin.jpg&amp;imgrefurl=http://www.femail.com.au/steve-irwin-crocodile-hunter.htm&amp;usg=__k6tnkcaBKcQroYeS2PSkVFESboo=&amp;h=398&amp;w=600&amp;sz=205&amp;hl=en&amp;start=5&amp;um=1&amp;itbs=1&amp;tbnid=I6sE-fF6j7xYlM:&amp;tbnh=90&amp;tbnw=135&amp;prev=/images%3Fq%3Dsteve%2Birwin%26um%3D1%26hl%3Den%26safe%3Dstrict%26sa%3DN%26tbs%3Disch:1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www.parentpreviews.com/legacy-pics/pink_panther.jpg&amp;imgrefurl=http://www.parentpreviews.com/movie-reviews/pink-panther/&amp;usg=__0PgJjiu7WOjROqcdqXL-46NVAis=&amp;h=250&amp;w=300&amp;sz=72&amp;hl=en&amp;start=13&amp;um=1&amp;itbs=1&amp;tbnid=NAuyXCahgs0jOM:&amp;tbnh=97&amp;tbnw=116&amp;prev=/images%3Fq%3Dpink%2Bpanther%2Bmovie%26um%3D1%26hl%3Den%26safe%3Dstrict%26tbs%3Disch:1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http://www.google.com/imgres?imgurl=http://www.dreamstime.com/angry-man-pointing-at-you-thumb162498.jpg&amp;imgrefurl=http://www.dreamstime.com/angry-man-pointing-at-you-image162498&amp;usg=__icgvVPPl2jPBuCkYRnrL7ycjDZE=&amp;h=350&amp;w=233&amp;sz=34&amp;hl=en&amp;start=18&amp;um=1&amp;itbs=1&amp;tbnid=f20O3ciik6crtM:&amp;tbnh=120&amp;tbnw=80&amp;prev=/images%3Fq%3Dangry%2Bman%26um%3D1%26hl%3Den%26safe%3Dstrict%26tbs%3Disch:1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ves her Rome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me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ba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crying for her banished lover… who she will likely never see again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’t believe that she is married!!!!! I LOVE YOU ROMEO!!!!!!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590920" y="37339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o to Juli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love you my love,  my absolute sun, my life! I am just happy that you are my wife. Love me and I shall fly on wings to your side! My heart goes out to my Juliet, my bride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ays that Romeo will say yes to the marriage…. I LOVE HIM!!!!!! Although I can’t believe that he was rude enough to listen in on my personal conversation… AND NOT TELL ME ABOUT IT!!!!!!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to Juli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my lady, I have asked your father for your hand in marriage. He said to make you love me! And I will…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mother would not force me to make a decision about marriage… I don’t want to!!!!!!!!!!!!!!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905120"/>
          <a:ext cx="1602000" cy="583920"/>
        </p:xfrm>
        <a:graphic>
          <a:graphicData uri="http://schemas.openxmlformats.org/drawingml/2006/table">
            <a:tbl>
              <a:tblPr/>
              <a:tblGrid>
                <a:gridCol w="1602000"/>
              </a:tblGrid>
              <a:tr h="58392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love is like my drug… I cling to it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60" descr="http://www.glogster.com/media/2/4/47/73/4477319.jpg"/>
          <p:cNvPicPr/>
          <p:nvPr/>
        </p:nvPicPr>
        <p:blipFill>
          <a:blip r:embed="rId5"/>
          <a:stretch/>
        </p:blipFill>
        <p:spPr>
          <a:xfrm>
            <a:off x="228600" y="425520"/>
            <a:ext cx="1295280" cy="1387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http://www.glogster.com/media/2/4/47/73/4477319.jpg"/>
          <p:cNvPicPr/>
          <p:nvPr/>
        </p:nvPicPr>
        <p:blipFill>
          <a:blip r:embed="rId6"/>
          <a:stretch/>
        </p:blipFill>
        <p:spPr>
          <a:xfrm>
            <a:off x="1981080" y="236232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http://www.glogster.com/media/2/4/47/73/4477319.jpg"/>
          <p:cNvPicPr/>
          <p:nvPr/>
        </p:nvPicPr>
        <p:blipFill>
          <a:blip r:embed="rId7"/>
          <a:stretch/>
        </p:blipFill>
        <p:spPr>
          <a:xfrm>
            <a:off x="1981080" y="304812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3733920"/>
            <a:ext cx="761760" cy="50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579132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http://www.glogster.com/media/2/4/47/73/4477319.jpg"/>
          <p:cNvPicPr/>
          <p:nvPr/>
        </p:nvPicPr>
        <p:blipFill>
          <a:blip r:embed="rId12"/>
          <a:stretch/>
        </p:blipFill>
        <p:spPr>
          <a:xfrm>
            <a:off x="1981080" y="434340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http://www.glogster.com/media/2/4/47/73/4477319.jpg"/>
          <p:cNvPicPr/>
          <p:nvPr/>
        </p:nvPicPr>
        <p:blipFill>
          <a:blip r:embed="rId13"/>
          <a:stretch/>
        </p:blipFill>
        <p:spPr>
          <a:xfrm>
            <a:off x="2057400" y="5791320"/>
            <a:ext cx="584280" cy="62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556272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143000" y="5638680"/>
            <a:ext cx="685800" cy="57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981080" y="5181480"/>
            <a:ext cx="68580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ves her Rome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 all my waking moments thinking of Romeo, Talking w/ Nur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omeo, romantics, poetry (especially if written by Rome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Gaga, Taylor Swift, Ray Boltz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carlet Pimpernel, (any Romance……)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Things I Hate About You, Good Luck Charli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 like all Romantics, but my favorites are poetry books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838080" y="533412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aylor Swift concert!!!!!!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hurs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Rome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Mon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458) - 876 – 6361 (I LUV ROMEO!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80" y="1870200"/>
          <a:ext cx="1525320" cy="554040"/>
        </p:xfrm>
        <a:graphic>
          <a:graphicData uri="http://schemas.openxmlformats.org/drawingml/2006/table">
            <a:tbl>
              <a:tblPr/>
              <a:tblGrid>
                <a:gridCol w="1525320"/>
              </a:tblGrid>
              <a:tr h="55404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love is like my drug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ling to it!!!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60" descr="http://www.glogster.com/media/2/4/47/73/4477319.jpg"/>
          <p:cNvPicPr/>
          <p:nvPr/>
        </p:nvPicPr>
        <p:blipFill>
          <a:blip r:embed="rId7"/>
          <a:stretch/>
        </p:blipFill>
        <p:spPr>
          <a:xfrm>
            <a:off x="228600" y="425520"/>
            <a:ext cx="1295280" cy="138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5334120"/>
            <a:ext cx="685800" cy="604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76320" y="6095880"/>
            <a:ext cx="7668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85800" y="1523880"/>
            <a:ext cx="601992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with Rome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 my lover, Romeo, texted me a while ago, and he was sooooo romantic and poetic! This is what he said! I love him!!!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 Ur beauty is like the sun, no, wait. It is MORE than the sun. It is like all the stars put together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AWWWWW &lt;3 Thanks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Ur welcome, my sweet. There is nothing in the world your beauty can’t bea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Seriously, Rom Rom, you should make a book of all your poems! They’re awesome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No. My poems are for your pleasure only, as is my love for you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Don’t make me blush!!!!!!!! Oh wait, you already did! I love you Rom Rom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meo: I love you too, my sweet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33520" y="4114800"/>
            <a:ext cx="563868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Life as a Veronian Teenager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ightey, then. Life in Verona is… well… BORING. With the exception of Romeo, of course… Any way, all I get to do is stay in the house and wait until some exciting news comes to me through my nurse, who I love dearly… but come on! Nothing ever happens to me… except my Romeo. That was a miracle just waiting to happen to me… But, I never get to see him because technically I “hate” him… GAH!!!! How can people stand it? Sometimes I wish that I could be like the heroes in the romantics I read… Knights in shining armor, saving the damsel in distress… SOOO romantic! Sigh… if only that could be me…. Or Romeo….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ves her Rome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520" y="1523880"/>
            <a:ext cx="6400800" cy="251460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533520" y="4038480"/>
            <a:ext cx="6400800" cy="221004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0" descr="http://www.glogster.com/media/2/4/47/73/4477319.jpg"/>
          <p:cNvPicPr/>
          <p:nvPr/>
        </p:nvPicPr>
        <p:blipFill>
          <a:blip r:embed="rId5"/>
          <a:stretch/>
        </p:blipFill>
        <p:spPr>
          <a:xfrm>
            <a:off x="0" y="457200"/>
            <a:ext cx="88272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1905120"/>
            <a:ext cx="9144000" cy="1447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371600" y="205740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I can’t believe your gon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ne and dead, 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1447920" y="3505320"/>
            <a:ext cx="6095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Wedding bells are rin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, we will be wed, and I will be th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Tyb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Capulet B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ly, I saw that rat Montague at the par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0" descr="http://www.glogster.com/media/2/4/47/73/4477319.jpg"/>
          <p:cNvPicPr/>
          <p:nvPr/>
        </p:nvPicPr>
        <p:blipFill>
          <a:blip r:embed="rId6"/>
          <a:stretch/>
        </p:blipFill>
        <p:spPr>
          <a:xfrm>
            <a:off x="228600" y="425520"/>
            <a:ext cx="892080" cy="109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3581280"/>
            <a:ext cx="1143000" cy="955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502920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2280" y="2133720"/>
            <a:ext cx="129564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1600200" y="1981080"/>
            <a:ext cx="64008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 can’t believe your gon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're gone and dead, and I can’t believe it. But I must, because why would my servant lie to me, and tell me so? Oh, Juliet, I love you and I will join you as soon as I can get means to do so. Poison may be the quickest way….. I vowed to love you forever, and I shall. I vowed to be with you forever, and I shall. Oh, Curse Fate who has made this luck fall on me! I cannot quench the sorrow I fee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05740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0" descr="http://www.glogster.com/media/2/4/47/73/4477319.jpg"/>
          <p:cNvPicPr/>
          <p:nvPr/>
        </p:nvPicPr>
        <p:blipFill>
          <a:blip r:embed="rId7"/>
          <a:stretch/>
        </p:blipFill>
        <p:spPr>
          <a:xfrm>
            <a:off x="76320" y="380880"/>
            <a:ext cx="102528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>
            <a:hlinkClick r:id="rId3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1600200" y="1981080"/>
            <a:ext cx="6400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dding Bells are ri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 we will be wed, and I will be the luckiest man on earth, with the most beautiful wife, and the most money. I will be the most popular man alive! You are making all my dreams come tru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6"/>
          <p:cNvSpPr/>
          <p:nvPr/>
        </p:nvSpPr>
        <p:spPr>
          <a:xfrm>
            <a:off x="1676520" y="388620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dding Bells are ri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may be so, Paris, but Luck may change. You are not the luckiest man alive, yet, because we have not yet wed. Time will t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0" descr="http://www.glogster.com/media/2/4/47/73/4477319.jpg"/>
          <p:cNvPicPr/>
          <p:nvPr/>
        </p:nvPicPr>
        <p:blipFill>
          <a:blip r:embed="rId5"/>
          <a:stretch/>
        </p:blipFill>
        <p:spPr>
          <a:xfrm>
            <a:off x="76320" y="533520"/>
            <a:ext cx="100620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2057400"/>
            <a:ext cx="1219320" cy="101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0" descr="http://www.glogster.com/media/2/4/47/73/4477319.jpg"/>
          <p:cNvPicPr/>
          <p:nvPr/>
        </p:nvPicPr>
        <p:blipFill>
          <a:blip r:embed="rId8"/>
          <a:stretch/>
        </p:blipFill>
        <p:spPr>
          <a:xfrm>
            <a:off x="304920" y="3581280"/>
            <a:ext cx="12096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>
            <a:hlinkClick r:id="rId4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>
            <a:hlinkClick r:id="rId5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24"/>
          <p:cNvSpPr/>
          <p:nvPr/>
        </p:nvSpPr>
        <p:spPr>
          <a:xfrm>
            <a:off x="1828800" y="1981080"/>
            <a:ext cx="6400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ly, I saw that rat Montague at the party yesterday… I want to kill him! But nooo… Old Man Capulet told me not to, that he was a “well-mannered boy.” YEA RIGHT! I will kill him for that, for coming just to make fun of us… CURSE THE HOUSE OF MONTAGUE!!!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1752480" y="44956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pul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h huh… sure, Tybal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1905120"/>
            <a:ext cx="1016280" cy="1523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0" descr="http://www.glogster.com/media/2/4/47/73/4477319.jpg"/>
          <p:cNvPicPr/>
          <p:nvPr/>
        </p:nvPicPr>
        <p:blipFill>
          <a:blip r:embed="rId8"/>
          <a:stretch/>
        </p:blipFill>
        <p:spPr>
          <a:xfrm>
            <a:off x="304920" y="4114800"/>
            <a:ext cx="1295280" cy="1387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0" descr="http://www.glogster.com/media/2/4/47/73/4477319.jpg"/>
          <p:cNvPicPr/>
          <p:nvPr/>
        </p:nvPicPr>
        <p:blipFill>
          <a:blip r:embed="rId9"/>
          <a:stretch/>
        </p:blipFill>
        <p:spPr>
          <a:xfrm>
            <a:off x="76320" y="425520"/>
            <a:ext cx="10332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213044</cp:lastModifiedBy>
  <dcterms:modified xsi:type="dcterms:W3CDTF">2010-05-17T19:18:39Z</dcterms:modified>
  <cp:revision>56</cp:revision>
  <dc:subject/>
  <dc:title>Profile</dc:title>
</cp:coreProperties>
</file>